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03798"/>
        <c:axId val="17025419"/>
      </c:barChart>
      <c:catAx>
        <c:axId val="5260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5419"/>
        <c:crosses val="autoZero"/>
        <c:auto val="1"/>
        <c:lblAlgn val="ctr"/>
        <c:lblOffset val="100"/>
        <c:noMultiLvlLbl val="0"/>
      </c:catAx>
      <c:valAx>
        <c:axId val="17025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FD3-F580-4DEE-B422-F634C5B6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3D1-8262-4B79-8AA7-A6B4F59C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9D6-72D4-4C2F-8A65-E44BB9FE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BCF-44AD-42EF-A633-9AC066AD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C6A-AD61-43C6-AC3D-E09196F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24A-506C-4C4A-8419-2FD09D0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F00-523B-4A76-B4A9-1AC021F1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638-1AD8-4121-9FE5-47B928F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192-0E5E-4513-A713-998BE76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2DF-B22F-405A-9F55-052E0F3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F40-6540-489E-8925-793704D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0ED-8FF7-4BD9-9E03-A8BA05C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A62F0-7BF8-401D-B85D-6FF26C84CA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