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419"/>
        <c:axId val="55532778"/>
      </c:barChart>
      <c:catAx>
        <c:axId val="5419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2778"/>
        <c:crosses val="autoZero"/>
        <c:auto val="1"/>
        <c:lblAlgn val="ctr"/>
        <c:lblOffset val="100"/>
        <c:noMultiLvlLbl val="0"/>
      </c:catAx>
      <c:valAx>
        <c:axId val="55532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373-22BF-43DB-B3FD-6D0B188D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FB4-BF07-428C-85A8-3F51D938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ADD-D617-45CF-9AFF-BF89BBD9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CA9-343F-4D6D-902F-54ED3E1A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558-AE77-4868-A66F-8EE52615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956-790C-49F9-A547-3EB938F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0F2-AD79-43EA-8002-EB48EC0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BAA-C25E-4F11-9AFC-69263B7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CFB-747C-496F-89D1-CC933C8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66D-3357-4B01-9000-1DB7148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DC7-B604-4FD7-9E20-D2E89FE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AB9-5319-45F5-9628-F6AB6D4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C9720-060F-47D8-A06D-01AC33BCB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